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548261"/>
        <c:axId val="71871785"/>
      </c:barChart>
      <c:catAx>
        <c:axId val="795482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871785"/>
        <c:crosses val="autoZero"/>
        <c:auto val="1"/>
        <c:lblAlgn val="ctr"/>
        <c:lblOffset val="100"/>
        <c:noMultiLvlLbl val="0"/>
      </c:catAx>
      <c:valAx>
        <c:axId val="718717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482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8E1B-BBA9-412D-B98D-9B05A99E3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D741-5AD8-4554-B5B3-3A8AC30D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2F10-4D28-4AED-B6C2-564524891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861B-74B0-4242-96FC-91519B326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DC24-7782-4115-AAA0-F565DEAD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E8F9-2C13-4A30-B029-5532903B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3F5E-7C78-4CB8-91B1-A2B7A97E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BA55-055B-4652-B908-65F053B7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6744-3362-4BC4-B470-FE6C0726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FF07-9A6A-498F-9CD4-04538D7D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087D-E48A-41D9-A7D6-DAC1379B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F63F-4F55-4225-ABBD-00BDBF78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B4895-783F-44DD-ADE9-890B501A75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